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4163-2432-4F0F-85C2-0A2BD342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04B6-47D4-4703-A73D-BA598423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8B86C-B344-4432-8FD8-B437EB92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2B7AC-6F1E-4B51-879A-2A99BA0A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9E611-93A4-4DDD-B198-CA2EBCFB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D3C50-58E3-480C-982C-75FDD8B8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5B038-BA0D-47F0-A7C9-4CBC634C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CB435-6A42-463B-93FB-32237C01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2DD53-F436-42DC-B87B-DFD77AAC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57265-1236-4CEA-94E2-89613C29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7F352-7BE1-4087-9129-8DEA39FB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12BF99-5FA2-41BF-B108-C9382533F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36BD-1672-420A-858F-A3B1795A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619105-6C2C-4A19-B225-20CF8D20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4D6A1B-8ACF-4CB1-B746-04544C89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F90A18-6463-4E57-8FD3-632E208F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F6EA43-1138-4CDF-8CC7-FB54F4E9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B4E8C8-86E7-46F6-879E-918468F7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2542E7-8F73-406A-819D-5BD722B9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282937-78B2-4BBB-896C-EEBBD105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B00529-C97B-47C2-BBF5-5F476F82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0D2ADA-34B8-4BF1-BBC8-1FB1DF86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113F81-16B9-436E-9769-FFCC3030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DB81-321F-4CD4-A888-B7363ECC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3BBE1D-980C-42CA-8753-1B3072CFB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5D991-192F-4919-B3F7-6043B192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A8580-E178-433A-8C36-3B5762BC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F635B-7459-4A3F-90C1-460C4288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13A4E-FFE2-4CFF-9C24-5C2F9050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53287-2D36-4B33-A0FB-2938AB39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4FDD6-8347-42BD-B33F-E80EF7AC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07F03-B3D1-47BD-BBEA-8026D298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6FD75-704E-4758-BB14-CD1F623E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4AED1-3E7D-4194-8E46-988CF373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8D60-BAE0-4021-910E-E85858079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19E33-248F-4E51-988D-947EF128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F0E46-CF3F-4089-8868-6523628F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E664D-DEA0-4962-B549-CE3B91BF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189727-1B02-4F3D-B5AE-8E1CF55BA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907C98-8CE9-4063-9E67-4BA34CBC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64C13-2D08-48F3-8DB0-0D2A0431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46D786-1240-42B8-8871-F8CC45F5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67D4BF-AF7E-486A-AF46-EDD5970D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C7E862-9490-4C21-9759-19125EE7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40C9D2-D986-4A40-B857-BF4B31EB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804E-2E08-4B7D-87F6-EC181B72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BA468-3A59-4F24-937A-9937B94B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881C19-C76B-4F41-8A0D-246AC995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97AB7-538B-4412-ACFE-3D917629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28312-CABB-4F9E-A936-D128DA124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47839D-4278-49C2-A6E1-C0F9BD79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456A49-FCCC-4DF6-8419-DC765FB8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61DF05-37D5-4E73-820C-79C8AA78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77C305-2CAB-4F56-913E-1CB004B2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0EDB7A-B2AD-48A2-A2B8-99B1E11A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B1D16E-72BD-405B-B260-E92579BD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7A89-C244-45F1-96BD-8264F63D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1E1497-E6F3-40E9-9FEC-8C965C59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7347C7-2001-4AD8-9B4F-22AA2D1F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88BDE5-8963-4F1F-BCF6-F38C2610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B33C16-F8EE-467E-8A9E-2D167810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5218A1-E85B-46B0-AD12-11A64D2E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533711-D183-4CC6-B3A2-BE62C90A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4C5AC1-70D9-4FD1-9945-20D9A60E4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D31B2A-8B2C-41E6-9B81-39297E55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8CF6E9-C40D-4B4D-85BA-68BBEC62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E7A057-4B28-4BFD-A924-2437B2C2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7AF8-390C-431E-A84F-25D36B63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F1C11A-FDFA-473C-A2CF-372D4615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1B5655-EA02-4E4A-9D3B-D28733D9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1BA89D-E24F-443F-8694-08D1E16D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541AAA-1660-487E-B9CE-4180AE18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7A9AD7-A786-414C-9EB9-2E947756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A16BCA-E54E-4E91-9A87-98077DD4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A4EC0B-6715-43BA-BB30-E2A0B5AC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3FE151-5E7A-4FE2-A3FD-CB232EAC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1D1EB2-2968-4D5C-B0C4-BB3A0F511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699F-92A2-4556-9BA0-92C64FB5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2193-42CA-4FEE-808C-78218A6F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6084-5AC1-410E-BD4B-A086E10C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E179-4813-4FB5-B3DD-B705CFF5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6EF5-7B87-4ED6-A138-5BEC7685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983B-5D52-4C44-AA45-A244F09A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87F8-6951-4F7A-9ED1-58B5FC5D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A063-9E3A-4BB1-BFB6-EA360EFE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CD91-557B-4903-BFAA-972E2DF0A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403F78-3D1B-4A88-A2BA-6FDB4E0D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F81451-1AAB-4BEF-8634-637091BD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9B92FE-777F-460D-96AF-9EC85479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AEEA86-EF95-4A95-AF30-B226E13C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28D076-D9ED-45E2-B0AE-E48B9946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9AD1-DAD4-491C-8C3C-76F4C650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FE3CB5-3B00-43BF-BD34-535419FA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2F69C0-8647-40CF-AE74-FC2042B1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2B7B60-9732-4136-9A6E-55B2E4C9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87F3C7-B02A-4A69-A8FC-5FD1D746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CD335C-000C-499B-8FC2-81904E6B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CE77A9-59A6-40E6-A9FB-D961E300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14AF54-D2BF-4187-93BF-D557241B0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B5519-5A6E-42FF-AEAE-0C8B9DA4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B3402-D725-4D2E-9E3E-83388BD5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FCFB8-AD59-4D5B-939E-A1EFB5C8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F9CB-92F5-417C-A426-8DE87A51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EC42A-753B-4439-A2E0-0B1D9789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1E414-4EB7-41DC-9A3F-A073BD0C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0EAF2-96FD-4F78-B822-18CED5DF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FD733-D06E-4439-AF77-B044EBC3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C0E19-7975-411C-A705-D130C532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A97B6-F592-406D-B174-61F2B600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D927E-FDCC-483C-A759-BA64D3AE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F1ECE-051B-43E5-BFF6-0CFBB6954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92AFC-B909-4E28-970C-A2542FAF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77993-51B1-4C49-BCDF-93F43EDF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0275-E030-4335-9688-04D71715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16517-D8E6-4AEB-9C85-5F5FD9A1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C35BF-8987-4D26-8F18-FA3DB320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998BB-114F-4283-A4D0-B3F5C337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3DE40-2B98-48DE-BC97-59961CDE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CEAD9-796F-4CE5-8657-F37D8174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7484C-9676-4C5A-AE13-DAEFE7DA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48447-4E80-4754-88FD-01A52C36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AA914-9F85-4D2D-9F36-B6A5D588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D31E9-060F-4992-B416-81FE02A3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6ED66-6E5F-4A76-BCA6-59FD260FA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41E5-015C-4865-AB54-256C5E8B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5C768-5B8A-4BB8-B07D-30D1F77C5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DD4CB-C11F-4CCC-AFB8-049769DF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33334-662F-455A-AC1F-B6D156BD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56DF3-4C08-4560-9132-FBF5A170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A296C-AA30-4F72-98AA-290E2BED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74999-E7A8-44D2-88F2-0609BEFE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1912A-9A8D-4AA9-AF88-3B9AB78F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E13C3-E738-44EE-9979-6C212878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215C9-4F9F-4946-93A6-E67F4D9E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65013-2930-44F0-A618-55D65735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953B-D10C-4E96-A4D4-2624197D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43941-521F-48AE-94C8-FDE4CD67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E2267-6B56-4330-8674-93EDE9E45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3CF66-F58F-4697-A18E-7142C87E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8602D-E4B7-4BCA-B7EF-EAF0C664E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3E8FB-DA25-426A-8982-5CB8F4EA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41370-5235-465C-AF49-DFB0B737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15046-6FA6-429E-BBD9-94812899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69AAF-1A83-4473-93F6-BB6924CE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90B86-31A4-4EE5-BF77-1F30F694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1D16F-D2ED-4451-A658-21C33F2F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51F8-4ED4-4497-9550-5B77166A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F84ED-AE3C-4FAE-A1FC-59459B32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7D2E0-1855-44D0-AFB6-13029E9B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4657E-9B40-478A-9FF7-B270C660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3F214-5EBC-465F-A3BB-D5FF42D0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C0866-DEDB-4788-9D4D-5B0638156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30139-078B-494C-ADAE-6FB0A6DD3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79C4F-2035-43AD-90F7-DC10B2B6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D2372-00F7-43D5-B77F-54543F14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C58AE-A30D-4502-A4C8-A7D476A1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B7E21-596A-49EB-913F-014F7154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7A52-66A0-4502-ADD6-FBEA570A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4A515-3D33-4A5A-A31D-674B1B12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A6BA6-1F0A-4577-8CB3-CB482E50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2AA52-CD85-4F27-94BC-BB600ADF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5FA6F-E9FE-4988-834D-B2407E21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F861C-BF75-4616-9CC8-A206FDD6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B8554-918D-49D1-8638-51158F58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71E4C-9785-4DF4-B53B-CAC4B27E2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148C3-9ACF-4543-9405-BBD818799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934E3-DAAA-48AC-B136-5020F9A2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15CD7-F374-4C5E-8BFA-5E4C724B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slideLayout" Target="../slideLayouts/slideLayout85.xml"/><Relationship Id="rId32" Type="http://schemas.openxmlformats.org/officeDocument/2006/relationships/slideLayout" Target="../slideLayouts/slideLayout86.xml"/><Relationship Id="rId33" Type="http://schemas.openxmlformats.org/officeDocument/2006/relationships/slideLayout" Target="../slideLayouts/slideLayout87.xml"/><Relationship Id="rId34" Type="http://schemas.openxmlformats.org/officeDocument/2006/relationships/slideLayout" Target="../slideLayouts/slideLayout88.xml"/><Relationship Id="rId35" Type="http://schemas.openxmlformats.org/officeDocument/2006/relationships/slideLayout" Target="../slideLayouts/slideLayout89.xml"/><Relationship Id="rId36" Type="http://schemas.openxmlformats.org/officeDocument/2006/relationships/slideLayout" Target="../slideLayouts/slideLayout90.xml"/><Relationship Id="rId37" Type="http://schemas.openxmlformats.org/officeDocument/2006/relationships/slideLayout" Target="../slideLayouts/slideLayout91.xml"/><Relationship Id="rId38" Type="http://schemas.openxmlformats.org/officeDocument/2006/relationships/slideLayout" Target="../slideLayouts/slideLayout92.xml"/><Relationship Id="rId39" Type="http://schemas.openxmlformats.org/officeDocument/2006/relationships/slideLayout" Target="../slideLayouts/slideLayout93.xml"/><Relationship Id="rId40" Type="http://schemas.openxmlformats.org/officeDocument/2006/relationships/slideLayout" Target="../slideLayouts/slideLayout94.xml"/><Relationship Id="rId41" Type="http://schemas.openxmlformats.org/officeDocument/2006/relationships/slideLayout" Target="../slideLayouts/slideLayout95.xml"/><Relationship Id="rId4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267A-7481-4A13-BA79-30A2710E63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F39C-C809-4D4F-88B5-3E0ABDAEB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7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808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809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812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B392-839D-4557-9E1C-ECB0C9B717E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85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85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1" name="PlaceHolder 1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sldNum" idx="3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0E11-F6E4-4844-80BD-1FA4C360AFA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02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03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17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9E72-B5CA-4EF4-B64C-005B02304C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09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9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10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dt" idx="4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ECAC-296A-430E-BFBF-C654C1EB92B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4E8B-0DBB-4E31-80A3-38935F5CCC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B77B-759A-467F-A783-595C4904C9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5DE7-333E-4A85-BEAB-0B93CD5113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8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8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9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9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0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754D-50CB-483A-86DC-633E46372AA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6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6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6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6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5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6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6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6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6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7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8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5551-D5A3-41A0-A697-CC73B77B3C5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3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3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4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4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4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5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5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5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7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14CE-6402-457C-A383-DD2D90654A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3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3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3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3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3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4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4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5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7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A778-1E37-4420-9DE7-11D863B5BF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1"/>
    <p:sldLayoutId id="2147483741" r:id="rId32"/>
    <p:sldLayoutId id="2147483742" r:id="rId33"/>
    <p:sldLayoutId id="2147483743" r:id="rId34"/>
    <p:sldLayoutId id="2147483744" r:id="rId35"/>
    <p:sldLayoutId id="2147483745" r:id="rId36"/>
    <p:sldLayoutId id="2147483746" r:id="rId37"/>
    <p:sldLayoutId id="2147483747" r:id="rId38"/>
    <p:sldLayoutId id="2147483748" r:id="rId39"/>
    <p:sldLayoutId id="2147483749" r:id="rId40"/>
    <p:sldLayoutId id="2147483750" r:id="rId41"/>
    <p:sldLayoutId id="2147483751" r:id="rId4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011A-3AF4-4046-97E7-5ECA0DAB3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4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Будущее стран ОПЕ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упров Семен 232г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ГПИ 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очему ОПЕК периодически сокращает добычу нефти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ОПЕК сокращает добычу нефти для того, чтобы не допустить падения цен на «чёрное золото» на мировом рынке. Естественно это благоприятный момент для России, хотя она и не состоит в данной организац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1" name="" descr=""/>
          <p:cNvPicPr/>
          <p:nvPr/>
        </p:nvPicPr>
        <p:blipFill>
          <a:blip r:embed="rId1"/>
          <a:stretch/>
        </p:blipFill>
        <p:spPr>
          <a:xfrm>
            <a:off x="1187280" y="3213000"/>
            <a:ext cx="38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312" name="" descr=""/>
          <p:cNvPicPr/>
          <p:nvPr/>
        </p:nvPicPr>
        <p:blipFill>
          <a:blip r:embed="rId2"/>
          <a:stretch/>
        </p:blipFill>
        <p:spPr>
          <a:xfrm>
            <a:off x="5219640" y="3213000"/>
            <a:ext cx="316872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394920" y="-160920"/>
            <a:ext cx="84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250920" y="189000"/>
            <a:ext cx="858816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аны ОПЕК буквально «кормят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ир нефтью, но, разумеется с выгодой для себ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5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351640" cy="4824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301680" y="-712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301680" y="25992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Разумеется доля нефти стран экспортёров велик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84872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800" y="16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250920" y="33300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cc00"/>
                </a:solidFill>
                <a:latin typeface="Arial Black"/>
              </a:rPr>
              <a:t>желаю успехов в получении новых знаний!!!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Какое будущее у стран ОПЕК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8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49636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Что такое ОПЕК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e103"/>
                </a:solidFill>
                <a:latin typeface="Arial Black"/>
              </a:rPr>
              <a:t>ОПЕК - ОРГАНИЗАЦИЯ СТРАН-ЭКСПОРТЕРОВ НЕФТИ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(Organization of Petroleum Exporting Countries, OPEC) – международная экономическая организация, объединяющая большинство ведущих стран-экспортеров нефти. Регулирует объем добычи и цену нефти на мировом рынке. Члены ОПЕК контролируют 2/3 мировых запасов нефти.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351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Первоначально в состав организации вошли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Иран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Ирак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Кувейт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Саудовская Аравия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Венесуэла (инициатор создания)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85800" y="6027480"/>
            <a:ext cx="7772400" cy="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240" bIns="21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3" name=""/>
          <p:cNvSpPr/>
          <p:nvPr/>
        </p:nvSpPr>
        <p:spPr>
          <a:xfrm>
            <a:off x="39528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Какие страны входят в ОПЕ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К этим пяти странам, основавшим организацию, позднее присоединились ещё девять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112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Катар (1961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Индонезия (1962—2008, 1 ноября 2008 г. вышла из состава ОПЕК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Ливия (1962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Объединённые Арабские Эмираты (1967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Алжир (1969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Нигерия (1971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Эквадор (1973—1992, 2007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Габон (1975—1994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Ангола (2007)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6" name=""/>
          <p:cNvSpPr/>
          <p:nvPr/>
        </p:nvSpPr>
        <p:spPr>
          <a:xfrm>
            <a:off x="684360" y="-31608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Какие страны входят в ОПЕ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588520" cy="64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ПЕК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395280" y="4076280"/>
            <a:ext cx="8370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Штаб-квартира ОПЕК первоначально находилась в Женеве, позже перенесена в Вену. Дважды в год (не считая внеочередных событий) проходят конференции ОПЕК, на которых каждую страну представляет министр, отвечающий за добычу нефти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299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4464000" cy="2705040"/>
          </a:xfrm>
          <a:prstGeom prst="rect">
            <a:avLst/>
          </a:prstGeom>
          <a:ln w="0">
            <a:noFill/>
          </a:ln>
        </p:spPr>
      </p:pic>
      <p:pic>
        <p:nvPicPr>
          <p:cNvPr id="1300" name="" descr=""/>
          <p:cNvPicPr/>
          <p:nvPr/>
        </p:nvPicPr>
        <p:blipFill>
          <a:blip r:embed="rId3"/>
          <a:stretch/>
        </p:blipFill>
        <p:spPr>
          <a:xfrm>
            <a:off x="4284720" y="333360"/>
            <a:ext cx="468000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Как долго существует ОПЕК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ганизация была создана в 1960 Ираном, Ираком, Кувейтом, Саудовской Аравией и Венесуэлой для координации их отношений с западными нефтеперерабатывающими компаниями. Как международная экономическая организация ОПЕК зарегистрирован в ООН 6 сентября 196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3" name="" descr=""/>
          <p:cNvPicPr/>
          <p:nvPr/>
        </p:nvPicPr>
        <p:blipFill>
          <a:blip r:embed="rId1"/>
          <a:stretch/>
        </p:blipFill>
        <p:spPr>
          <a:xfrm>
            <a:off x="2556000" y="3789360"/>
            <a:ext cx="496872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Для чего была создана организация ОПЕК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ние ОПЕК было вызвано стремлением стран – экспортеров нефти скоординировать усилия по предотвращению снижения мировых цен на нефт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64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8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0:36:32Z</dcterms:created>
  <dc:creator>User</dc:creator>
  <dc:description/>
  <dc:language>en-US</dc:language>
  <cp:lastModifiedBy>07114</cp:lastModifiedBy>
  <dcterms:modified xsi:type="dcterms:W3CDTF">2009-11-27T07:42:30Z</dcterms:modified>
  <cp:revision>3</cp:revision>
  <dc:subject/>
  <dc:title>Будущее стран ОПЕК</dc:title>
</cp:coreProperties>
</file>